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ADAD-41ED-4643-B817-A85C44457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8181-9012-4B49-BAD3-3E5B1F52F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5770-9B0A-4082-808E-0D12C928B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D5F7-8A52-4E97-A802-466EF5E58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41AEB-5894-44C2-A9B2-FE99C85DD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40EEA-3B18-461E-9CA3-1C1ACDF53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8DC4E-DD23-4290-B5A7-FC6BE3B90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898C2-3D25-4D80-8DEE-7195E41E1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247B0-E7B0-4A95-AFAF-F95601DFA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302C9-A109-4186-9F94-D1A2948C0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C8B7B-E5C4-412E-9866-76CA2C09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4753-BB74-402C-9D15-4AB28262B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C9B1B-56BC-4C70-97A1-1A78EBF60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0D431-3B2F-4D2D-9A9F-82DABD92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CC8A4-B9E9-463F-BF6A-15A8F3FF6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5ED85-A615-4443-9657-4A3263A3F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A560C-C41E-47AF-9E72-0903EABCD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1E51-A5CC-40B2-8C4A-D40CEC5BB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C4D7-7043-4922-9FAF-23F1DD583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9083-E78E-42DB-9CD0-C621D9BF2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DFAE-D30F-46E9-AB66-B383BA07A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C560-4362-4A2E-9C18-6828EABC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1884-4B09-45C7-B447-8C4D4071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4AA6-A35B-47A7-8CF2-EBB382D5D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79835-FACC-49C1-A78D-7C51D7304F8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9FC14-D126-4281-AAC3-A892282577E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cms.hhs.gov/regulations/" TargetMode="Externa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NF PPS REFINEMENTS-   53 RUG-III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wing-Bed Vers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CMS, November 21, 2005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habilitation Criteria (con’t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Very Hig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he last 7 days (section P1b [a, b, c,]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00 minutes of therapy per week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least 1 discipline 5 days/wee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8948-9465-469F-9FC7-0A65B695300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habilitation Criteria (con’t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Hig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he last 7 days (section P1b [a, b, c]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25 minutes of therapy per week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least 1 discipline 5 days/wee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00C1-183A-4672-B14A-2BFFEEF3C5A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habilitation Criteria (con’t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Medi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he last 7 days: (section P1b [a, b, c]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50 minutes of therapy per week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least 5 days any combination of the 3 discipli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5197-BE78-42C8-B096-B438499C939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habilitation Criteria (con’t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600" y="152388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Lo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he last 7 days (section P1b [a,b,c] and P3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5 minutes of therapy per week minimum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least 3 days any combination of the 3 disciplines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or more nursing rehabilitation services received at least 15 minutes each for 6 days/wee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03B7-6E2F-4F39-9AC7-2D5F8DB92CE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re there any changes to the MDS?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.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here have been no changes to the instructions for completing the MDS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You will continue to complete as usua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18D9-3BA4-4143-B22F-E7D3674FB62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DS Implicat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changes to MDS item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ection 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– projection of therapy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ontinu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for high, medium, and low intensitie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MRA requirement must be fulfilled when all therapy services are no longer provid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resident was previously assigned into a Rehabilitation Plus Extensive Services or Rehabilitation catego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ther skilled services continue to be requir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3E1A-C72D-473F-B16E-A903989C24E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dministrative Presumption of Coverag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Qualifying hospital stay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eet the level of care requirements of </a:t>
            </a:r>
            <a:r>
              <a:rPr b="0" lang="en-US" sz="2500" spc="-1" strike="noStrike" u="sng">
                <a:solidFill>
                  <a:srgbClr val="006666"/>
                </a:solidFill>
                <a:uFillTx/>
                <a:latin typeface="Verdana"/>
              </a:rPr>
              <a:t>42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5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CFR 409.31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Up to and including the assessment reference date for the 5-day assessmen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ssigned to one of the RUGs as representing the required level of care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7186-6513-4F19-BCCE-B6C35795F3E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Groups “Administrative Presumption” Appl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pplies to the top 35 groups when correctly assigne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 beneficiary who classifies to any of the lower 18 RUG groups is not automatically classified as meeting the SNF level of care defini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3B9C-BC02-4683-A241-1A754BA8AD4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op 35 RUG group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ehabilitation plus Extensive Services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ltra High Rehabilitation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Very High Rehabilitation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igh Rehabilitation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edium Rehabilitation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Low Rehabilitation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xtensive Service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ecial Care; and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nically Complex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A289-48C4-4F9A-AEF2-F75854C1438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ftware Updat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ew version of RAVEN, 5.20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Begin using new software for ARDs of 11/22/05 and late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Will receive 2 RUGs categories on Final Validation Report from 11/22/05 – 1/13/06 =&gt; one will be 44-RUG category, one will be 53-RU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8038-AD0B-4D85-9CA9-3912D0BFF1F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y RUG Refinements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tion 101 of The Medicare, Medicaid, SCHIP Balanced Budget Refinement Act of 1999 (BBRA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mporary add-ons for specified RUG group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til 10/1/00 or the implementation of case-mix refinements to the SNF P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74B5-4B5B-46F0-9C04-90542B53FF0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ayment Implicat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r dates of service from October 1 to December 31, 2005 payment based on the 44-group RUG classification syste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r dates of services January 1, 2006 and on payment based on the 53-group RUG classification syste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8F5F-DEF5-49C3-98EF-1622EEFAE70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ayment Implications (con’t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dex maximizing classification  continu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en a beneficiary classifies into more than one RUG category, the group with the highest case mix index (CMI) will be assigne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7F2C-3B9B-40F5-B6D6-94F87D1049C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ndex Maximizing Classification Exampl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erson meets criteria for assignment into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VL (CMI = 46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VB (CMI = 43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2 (CMI = 31)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VL has highest CMI (46).  Therefore, the person will be assigned into RV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1FB4-0142-4569-8A22-801C631F372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d-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emporary add-ons of 20% and 6.7%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emain in effect 10/1 – 12/31/05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o longer apply 1/1/06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IDS temporary add-on of 128%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pplies to both RUG classification system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2074-BA9D-44E9-9CD2-37F57765E06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aims Implicat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w HIPPS codes are for the nine new categories only, which correspond to nine new RUG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 changes to assessment indicator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aims with one of the new nine RUG categories with dates of service prior to 1/1/06 will be rejecte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ABB7-DAE6-44F5-A6C1-BD7A82CDC4E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VERVIEW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3 RUG-III Case-Mix Classification System (44 RUGs plus 9 new on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letion of the M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sumption” of Coverag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ftware upda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ymen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5645-4A9A-45EF-95E9-7539DBB0D82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53 RUG Case-Mix Classification System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Verdana"/>
              </a:rPr>
              <a:t>Rehabilitation Plus Extensive Services:  RUX, RUL, RVX, RVL, RHX, RHL, RMX, RML, RL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habilitation: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UC, RUB, RUA, RVC, RVB, RVA, RHC, RHB, RHA, RMC, RMB, RMA, RLB, RL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ensive Services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3, SE2, SE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ecial  Care: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SC, SSB, SS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A30E-C308-4ECE-B835-7D9BE77ED4B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53 RUG Case-Mix Classification System (con’t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nically Complex: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C2, CC1, CB2, CB1, CA2, CA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aired Cognition: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B2, IB1, IA2, IA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havior Problems: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B2, BB1, BA2, BA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duced Physical Function: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2, PE1, PD2, PD1, PC2, PC1, PB2, PB1, PA2, PA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3AA6-2EAE-4E25-9C1D-4A7A6ED5413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3 Requirements Necessary to Classify into Rehabilitation Plus Extensive Services Categor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L SCO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TENSIVE SERVICES CRITER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HABILITATION CRITER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25CB-0F32-4A92-BA3F-F610BC38494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L Scor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DL score must be 7 or high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requirement is consistent with the  existing requirement for classification into Extensive Serv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3948-29CE-4000-9DC8-F952A5DC49A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xtensive Services Criteri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resident must be coded for receiving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on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r more of the following extensive servic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9a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enteral / I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8a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V Medi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8a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ctio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8a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heostomy c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8a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entilator or respira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B217-3676-412B-9C7B-304912B62FD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habilitation Criteri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Ultra Hig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he last 7 days (section P1b [a, b, c]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720 minutes of therapy per week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least 1 discipline 5 days/week,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nd discipline 3 days/week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64A2-50A2-4E5B-99CE-8EF36F1DB98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8T17:28:31Z</dcterms:created>
  <dc:creator>CMS</dc:creator>
  <dc:description/>
  <dc:language>en-US</dc:language>
  <cp:lastModifiedBy>CMS</cp:lastModifiedBy>
  <dcterms:modified xsi:type="dcterms:W3CDTF">2005-11-21T15:13:20Z</dcterms:modified>
  <cp:revision>18</cp:revision>
  <dc:subject/>
  <dc:title>SNF PPS REFINEME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